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43D-BE32-4B85-AD5F-DF287239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785-079E-4CB8-8A50-02BEB655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AAD-55A3-4B16-AACE-12659AB7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116-E1F5-454B-835A-40688BF4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693-C720-4BC2-8A78-48BE11D9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F29-095C-4D5A-979D-8852E06E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D1F-6270-4279-A1DA-DEACA3B0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DBE-A5C3-478B-8382-28C345C6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C7C2-E517-4D16-BDA9-DE18E284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4AD7-86CD-4E8B-806F-9E4789BD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F2B-5941-415A-B05A-109121A5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E51-7B4C-46F4-A9CB-B2F4C7EC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FC95-D514-47A3-A7B1-46251269F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eb.mit.edu/invent/iow/nissen.html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62920" y="5334120"/>
            <a:ext cx="1828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7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304920"/>
            <a:ext cx="43434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ampolin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172200" y="609480"/>
            <a:ext cx="256212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3504960" cy="1704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8088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3733920"/>
            <a:ext cx="419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200400"/>
            <a:ext cx="4038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mpoli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11,20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.mit.edu/invent/iow/niss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Nissen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Nissen"/>
          <p:cNvPicPr/>
          <p:nvPr/>
        </p:nvPicPr>
        <p:blipFill>
          <a:blip r:embed="rId3"/>
          <a:srcRect l="28892" t="0" r="0" b="0"/>
          <a:stretch/>
        </p:blipFill>
        <p:spPr>
          <a:xfrm>
            <a:off x="0" y="0"/>
            <a:ext cx="4495680" cy="1949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7920" y="60199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love trampolin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vention: Trampo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games to play on the trampoline like space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mpoline mean in spanish  bouncing r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rge made safety n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mpolines are for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5880" y="4648320"/>
            <a:ext cx="2743200" cy="1977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George Ni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 born in Blairstown, Iow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 a gymnast when he was li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age of 16 George finished high schoo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sold more than 100 trampo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also work at a c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currently lives in San Diego Cali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943600" y="5618160"/>
            <a:ext cx="2963880" cy="1239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19:20Z</dcterms:created>
  <dc:creator>install</dc:creator>
  <dc:description/>
  <dc:language>en-US</dc:language>
  <cp:lastModifiedBy>install</cp:lastModifiedBy>
  <dcterms:modified xsi:type="dcterms:W3CDTF">2011-01-14T17:12:10Z</dcterms:modified>
  <cp:revision>8</cp:revision>
  <dc:subject/>
  <dc:title>Slide 1</dc:title>
</cp:coreProperties>
</file>